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F37-2567-430B-B93A-09A20766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A72-4E4A-48D1-A86D-6CEC1BEE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B59-26E3-447A-8700-03352D76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E6F-B7DC-455E-9BDA-C9B347D9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01F-B9C5-46FC-B90B-F4B0D95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438-875D-4E79-B518-F5EB041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E82-6BC5-417A-959F-B8B725D1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CA6-70C0-48BF-B532-9F23E4B1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DE2-4436-464A-AF30-C7CC3D3A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F0B-9DAA-4C41-9C75-E5E6C37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C7C-7B51-4D61-BF5A-3AB2F68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E36-6D10-40FF-BC53-10283A03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A514-7A77-41E5-A996-0869F0638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66160" cy="11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16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3646440" cy="43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8458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224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7659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20:41Z</dcterms:created>
  <dc:creator>Graham</dc:creator>
  <dc:description/>
  <dc:language>en-US</dc:language>
  <cp:lastModifiedBy>Graham</cp:lastModifiedBy>
  <dcterms:modified xsi:type="dcterms:W3CDTF">2012-08-08T12:18:49Z</dcterms:modified>
  <cp:revision>2</cp:revision>
  <dc:subject/>
  <dc:title>Slide 1</dc:title>
</cp:coreProperties>
</file>